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F1CA-3789-4B3B-9A59-4FE890B3F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F032-E0D6-4793-A642-6ED13049443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B245-7EB9-48AA-93B7-CC626DB89D2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E74A-8438-43FB-81D7-C6F378B4AFE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189B-3327-4878-8E52-CAF6E1AA4E3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33F7-1280-46E8-AB6D-6D8C85EEAE2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32ED-3CB0-4F10-B0C8-265EFE153A0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2E22-5CBC-4859-A012-40F8039CB35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17DB-68AF-4198-81EF-1758723B9B7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671E-35D2-4D1B-BAA8-8B48F6747B9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99AB-7FA1-478D-B99A-5417A198A3A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9A3B-9749-4FB0-BF6F-3A9AB575143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D80D-79B4-4D81-A7B5-803041C45FC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28FC-C053-48C4-82E7-3F575EEC757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155A-1241-405F-9C17-1E6125A953B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AE4D-C721-4707-886F-E8F671A5137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3F87-1334-45D5-B057-4EFE46AD569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E194-30DA-4250-A9F7-735E1CE25AE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C00E-FEF5-4FA2-B354-1ECFF762549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7D15-605C-41A8-9FF3-2A83E518EC1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CCB2-382D-4F6E-9BA0-6AAC22BBB61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8A95-1872-4D0C-B6D5-6FDB9B6FDB7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3B37-3165-47FC-851A-684331BB8FD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D50B-F59E-4855-A074-EEC5E5EB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CDCD-F981-4EB2-9921-FDED2F55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8B6-0DE8-4D4E-841D-C6857A32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254-8B52-4606-9B41-82C4E1EE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02AA-022A-4F6D-95C7-5FCB6569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5BB9-96FF-4D4B-ADC0-609B8DA1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A2E1-0174-41AF-8629-FCE52357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B533-5D7E-4874-AE55-226AA567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29FB-34F2-4625-B7B6-D4BEBB28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7670-733E-4E4A-9935-14123DC3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0735-A795-49CA-BB13-78313C1E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A9B-446F-4A99-818C-E480FC57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3E37-61F8-467B-A2BE-46532CBA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372D-13C0-480B-9BF9-082FBC8F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85E5-F4B6-46E0-B62A-561515EF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014D-83A4-4B21-B7EB-6F94B4A5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183B-0302-4C0B-9340-D517B3A3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88B-398D-4DFA-AE6D-A9DECB83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401-6ABE-4FD3-BBE0-D3AC62FD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D65-973B-47E4-98CE-E3290BF2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E72-5591-4359-88F5-144A6F19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EC9-A7A1-4117-81C2-485948FE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D5D-2E4E-4F44-8F5B-187550CE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6AD-9A81-42D5-80A3-45FAEE47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DFE1-DEBC-4913-B927-4389D4597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95BF-74BF-45EA-BE82-5654EC0AE3A0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Motivating Young Readers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in Your Classroom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(and Exploring Picture Books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insic Motivation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llow choice in what to read and how to respond and with whom they interact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sk them about their likes and dislikes (especially about reading) **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odel excitement/passion - give a booktalk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each students HOW to choose book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terdisciplinary connection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should you know about the differences in motivations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ANGER: When students are rewarded for completing tasks, intrinsic motivations decrease </a:t>
            </a: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(Cameron &amp; Pierce, 1994)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Decreases in engagement time and attitudes toward reading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ho were rewarded LESS during free time read MORE (they attributed the cause of their reading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nternal factor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like interest &amp; curiosit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ho were rewarded MORE during free time read LESS (they attributed reading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ternal factor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like points, grades, &amp; sticker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should you care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rinsic motivations are imperative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ifelong, voluntary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rinsic motivations are vital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higher-order strategy developmen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eads to deeper meaning-mak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ernal metacognitive monitoring, clarifying, and reflect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therwise, you have “Fake” readers! 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Kelly &amp; Clausen-Grace, 2008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makes student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ant to read?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Worthy, 2002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vid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ngaging instru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 everyday excitement about book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ing for enjoy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hoice and variet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in reading material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ach students how to choose their own book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erest Inventories (see examples in handou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Online Reading Locations to Motivate Young Reader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066320" y="419112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re’s TONS of informational text at a reading level kids can enjoy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icture 3"/>
          <p:cNvPicPr/>
          <p:nvPr/>
        </p:nvPicPr>
        <p:blipFill>
          <a:blip r:embed="rId1"/>
          <a:stretch/>
        </p:blipFill>
        <p:spPr>
          <a:xfrm>
            <a:off x="152280" y="611280"/>
            <a:ext cx="883944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4" name="Picture 4" descr="Picture 4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7" name="Picture 4" descr="Picture 5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30" name="Picture 1030" descr="Picture 8"/>
          <p:cNvPicPr/>
          <p:nvPr/>
        </p:nvPicPr>
        <p:blipFill>
          <a:blip r:embed="rId1"/>
          <a:stretch/>
        </p:blipFill>
        <p:spPr>
          <a:xfrm>
            <a:off x="123840" y="411120"/>
            <a:ext cx="88948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33" name="Picture 4" descr="Picture 9"/>
          <p:cNvPicPr/>
          <p:nvPr/>
        </p:nvPicPr>
        <p:blipFill>
          <a:blip r:embed="rId1"/>
          <a:stretch/>
        </p:blipFill>
        <p:spPr>
          <a:xfrm>
            <a:off x="152280" y="430200"/>
            <a:ext cx="883944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Compare and contrast intrinsic and extrinsic literacy motivations and their connection to classroom culture and literacy instruction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Identify several ways to learn more about your students’ literacy motivations in ways that can guide instruction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Picture Book Festival! [Awareness]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etting up classroom routines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Chapter 5, p. 60-61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vide variety and choice; self-sele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courage social interact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o points to “hold accountable”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 students select books with Booktalks and 5 finger tes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trategy conferences: (coaching, monitoring, and facilitating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ort response log (p. 72) -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’m wondering…I can see a clear picture of…I made a connection to…I was confused when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easuring Young Children’s Reading Motiv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did the authors of your two readings learn about literacy motivation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ading - Interest Inventori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see handout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lementary Reading Attitude Surve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McKenna &amp; Kear, 1990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elp plan classroom librar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uage movement from beginning - middle - end of the school year (an increase of 5 or more points on subsections; 7-8 points on total score reflects growth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easuring Young Children’s Reading Motiv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tivation to Read Profil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(Gambrell et al, 1996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amines self-concept for reading and value of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The Reader Self-Perception Scal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(Henk &amp; Melnick, 1995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vise ways to enhance children’s self-esteem in reading and to increase their motivation to rea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are and contrast intrinsic and extrinsic literacy motivations and their connection to classroom culture and literacy instruct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dentify several ways to learn more about your students’ literacy motivations in ways that can guide instru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NRE: Chapter 3 - Picture Book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RATEGY: Chapter 5 - Predic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Next week - Exploring Picture Books and Embedded Strategy Instruc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insic Motiv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vide lots of time for indep.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 readers sort out what types of books they like and label the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Variety: old/new, different format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nces to share with their pe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re read-aloud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ow enthusiasm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lan for activities that go along with book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trinsic Motiv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ook logs with different genr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ccelerated Reader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is literacy motivation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The reasons, purposes, and goals for reading and writing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They are multidimensional (many levels and layers) and diverse (many reason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 you like to read?  Write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re you good at reading? Writing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do you read? What do you write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hy do you read? Why do you write?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ypes of motiv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Intrinsic motivation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oals that are internal to the learner and guided by personal interests and private experienc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xtrinsic motivation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oals that originate outside the learner (often guided by parents and/or teachers) - guided by points, stars, external reward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609480" y="4114800"/>
            <a:ext cx="7620120" cy="2064600"/>
          </a:xfrm>
          <a:prstGeom prst="rect">
            <a:avLst/>
          </a:prstGeom>
          <a:solidFill>
            <a:srgbClr val="ffdc4c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XTRINSIC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9480" y="2093760"/>
            <a:ext cx="7620120" cy="2064600"/>
          </a:xfrm>
          <a:prstGeom prst="rect">
            <a:avLst/>
          </a:prstGeom>
          <a:solidFill>
            <a:srgbClr val="009999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INTRINSIC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ight distinct motivation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or literacy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Sweet &amp; Guthrie, 1996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volve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uriosit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llen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liance motiv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cogni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ork Avoidanc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Group Activit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eveloping Motivated, Lifelong Readers In Your Classroom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can teachers help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5 minutes in small group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5 minutes as a whole group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_x0017_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External Motivation?</a:t>
            </a: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 certain amount = prize!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uild on their interests with similar genr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cial acceptance;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park interest with ANY topic!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cial interaction – get involved with others who like reading  - they learn through model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 get to share what you read or writ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Vary the group size – large or small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insic Motivation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elp set personal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aired reading – peer reading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Keep modeling – they should keep doing it!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 read-alouds with harder books – and easier book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_x0017_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External Motivation?</a:t>
            </a: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ole play /drama to spark students’ interes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play books - talk about stori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licit a personal response (alternative to avoid writing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 up a reward system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 up a fun place to read (comfortable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a candy drawer after explain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eep a reading log - pages read, short summary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etition/reward/punishmen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5:21:29Z</dcterms:created>
  <dc:creator>Julie Coiro</dc:creator>
  <dc:description/>
  <dc:language>en-US</dc:language>
  <cp:lastModifiedBy>Julie Coiro</cp:lastModifiedBy>
  <dcterms:modified xsi:type="dcterms:W3CDTF">2009-09-24T16:20:29Z</dcterms:modified>
  <cp:revision>117</cp:revision>
  <dc:subject/>
  <dc:title>Metacognitive Strategy Instruction to Enhance Reading Comprehension</dc:title>
</cp:coreProperties>
</file>